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24256-1284-4E13-9599-8D3453F8C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8A500-CD38-4543-BBC6-414827996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D6F9D-E82C-4990-9203-9FDF9D69A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556BB-E17F-44D9-A231-A20C228B6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2793F-4F4D-4C53-839A-4B7E50B8F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20D6D-A878-415B-9AC5-EFA503554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A00E9-22A2-4E44-AC06-6F882F500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C4392-5AEC-4C4F-B55A-31E7BD2CA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E62C3-0D21-4328-B6CF-364662ECE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9B221-1554-4325-9243-54D82E62D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BA0A7-EB10-4629-871E-895FFFE16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D3571-934C-40F4-9FBB-4CE10EF3C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AEC0603-2DEA-4B31-9116-6FDEBC9F112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108F1BB-DA2E-46EA-A22F-62494C78A2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What an FRQ Is Not and I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What an FRQ Is No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n Essay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riting Focused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Grammatically Scored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Graded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xated on minor dates and fact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mply buzzword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cut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What an FRQ Is…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 short answer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ontent Focused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cored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Demonstrates processes and concept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bility to fully explain and answer the questio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lways looped back around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kill drive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28T16:25:12Z</dcterms:created>
  <dc:creator>Patriot</dc:creator>
  <dc:description/>
  <dc:language>en-US</dc:language>
  <cp:lastModifiedBy>FAdmin</cp:lastModifiedBy>
  <dcterms:modified xsi:type="dcterms:W3CDTF">2011-06-24T16:19:39Z</dcterms:modified>
  <cp:revision>3</cp:revision>
  <dc:subject/>
  <dc:title>What an FRQ Is Not and Is</dc:title>
</cp:coreProperties>
</file>